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5CA7-3AEA-4624-B6E6-B056B9716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1D3-04F3-4CBF-A43D-B24BCEFC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C4D-83E2-4CBA-B330-91D85B66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FB4-91A7-4A96-BAB5-878C3CD6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630-F8ED-4F5E-B3F9-AC15D5A7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A18-1942-4C30-94D2-E967FD6D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9A0-CE09-47C5-9121-176E77B74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E5E-633F-46B1-895F-A8C684FC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02E-A325-46A4-BAAD-5044B20E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07EB-BFE1-4C2C-9CB3-59D327F49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AEB-A522-4130-8009-14891612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A76C-95B4-492B-AD40-846FA342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D82-BB04-412E-8685-8E5FE2BC95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ental and Emotional Health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t Portfolio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neé S. Hilt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Unit Summa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study their own health as they analyze mental and emotional heal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work together to create a Wordle of words related to self-este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develop a list of strategies to cope with str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will create a PowerPoint presentation of their find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FQ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sential Ques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mental and emotional heal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t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signs of mental and emotional heal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nfluences your person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self-concept and self-este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 Ques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personalit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are two benefits of high self-estee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resilien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elf-Esteem Projec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roject will help you build 2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entury skills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 with pe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ing problems and making decisions about your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 with others through a Powerpoint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 your learning with a real aud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Gauging Student Needs Assess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rpose of the Assess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ather information about what you already know and what you wonder about your own self-este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 want to learn from my stu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d out what students already know about the Unit Questions and what they know about how to deal with challenges of low self-este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have I tried to promote higher-order thinkin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ask students to ask peers questions, discuss possible answers and find relationships  between self-esteem and personality and draw conclus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will the assessment help me and my students plan for real life situa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udents can reevaluate their misconceptions involving self-esteem, mental and emotional health.  I can answer specific questions and students can add their new knowledge to their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98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98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898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98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98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My Goals for the Cours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d ways for students to get more interested in learning about their own personality, mental and emotional heal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different ways to use technology to assist students with their own presentations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oals for My Student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learn strategies that will help them deal with stress management and resil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ccept who you are and always work to find out more about your own pers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27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98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98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quests for Feedback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ways to help students take responsibility for their own work and ide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ways to help the students understand the importance of having high self-esteem in order to promote a healthy lifesty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22:14:14Z</dcterms:created>
  <dc:creator>Valued Gateway Client</dc:creator>
  <dc:description/>
  <dc:language>en-US</dc:language>
  <cp:lastModifiedBy>Valued Gateway Client</cp:lastModifiedBy>
  <dcterms:modified xsi:type="dcterms:W3CDTF">2009-03-16T22:26:51Z</dcterms:modified>
  <cp:revision>12</cp:revision>
  <dc:subject/>
  <dc:title>Mental and Emotional Health</dc:title>
</cp:coreProperties>
</file>